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A60-AF76-4AE9-93D6-88BBBEB6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EACF-91F8-48F3-96F9-4839774B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B65-5762-47E6-8CC9-63CD981A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073-1244-4124-B231-5EF5E2A4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879F4-A968-420D-BB35-58EAFC1C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8E0A-C9A2-4587-8CE7-7071CFDE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47E7-F510-40D2-B925-C6FCD19F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5CA-9E94-42DB-A59A-4096BADF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96D3-928D-4966-92F1-68284CC0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8D9B1-6822-425A-BF59-CCC608349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8CE2-C7EF-4B74-94D3-30E86C88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5ABE-14EC-4FD3-B46E-023B9A69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4C133-6540-40C1-A58D-DA5FA69C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70A8C-993A-4373-A6E2-92EBB375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F7A0-AE96-4383-B5CD-B6D650CC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4844-84C1-48E3-9CE5-3AFC1129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3E9C-EDC3-42C0-A436-375BFCE1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49A-76FA-42A7-B7F5-388C554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E09-A902-45E8-A2AA-52308359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620-1A5F-4DB4-A929-DB1E6330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5660-FD9D-40CF-8E62-43AEDBD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BF0C-7474-4182-A2EE-363008C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806-BCD1-4612-9FCB-E67A9ACF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C6F-8C42-4428-9E85-ADF57837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A3A6-CED4-4947-994A-CB1692969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78615-23E4-4E77-B0F5-436F5A991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xchange.smarttech.com/#tab=0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Thursday Tech Academy Inf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ssica Willi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Technolog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http://exchange.smarttech.com/#tab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295280" y="2362320"/>
            <a:ext cx="640080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Handou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education.smarttech.com/ste/en-S/Ed+Resource/Teachers+Hub/Getting+started/SBiW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MART Board User Gu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nstructech.usi.edu/smartboardguide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43000" y="220968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icni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picnik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019920" cy="33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dacit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sss.audacity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acity is free software, cross-platform digital audio editor and recording application.  A download of the application to your computer is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imo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animot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55308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toondoo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55344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8T14:27:18Z</dcterms:created>
  <dc:creator>setupuser</dc:creator>
  <dc:description/>
  <dc:language>en-US</dc:language>
  <cp:lastModifiedBy>setupuser</cp:lastModifiedBy>
  <dcterms:modified xsi:type="dcterms:W3CDTF">2010-06-18T14:53:32Z</dcterms:modified>
  <cp:revision>5</cp:revision>
  <dc:subject/>
  <dc:title>Slide 1</dc:title>
</cp:coreProperties>
</file>